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E6D-71BC-4FE9-94F7-68F10C16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63B-7295-4620-89F3-E074A99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FF7-872F-444C-83E1-47E2D3E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A2D-8FD6-4793-8C8C-C282FDAC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4D7-45DF-43D7-A87F-5582A76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AFE-CC8C-4D5F-B769-4DF21093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A73-E938-421C-9856-4D0B229C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85D-B68F-4EED-A1AF-291181D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71C-6026-4D00-9D1A-7BD130AA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1E9-1708-4DCE-9346-F70BADE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B0C-4C2F-4FFE-A48C-89936BA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6F8-B72A-417C-AA60-2D2A8F8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4071-DDDF-4CF4-96DC-28058CBA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ton Rowan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Portfoli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graphy 200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photo using the reflection from a mi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19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477120" cy="517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1828800"/>
            <a:ext cx="220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y emulation role I emulated Ralph Meatyard by putting a mask on my buddy and having him do funny 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627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Lisa Harrylocks hand holding a strawberry I really like this picture because her nails are painted the same color as the fr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609480" y="380880"/>
            <a:ext cx="3962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600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Ligh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G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8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inting with a flash to show background while retaining the sta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0199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lucky water drop splash picture. it Kind of reminds me of the cool aid man for som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818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7656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shot I put a feather, business card and 5 dollar bill in between glass. And the print paper and on top I put a pen cough drop and nail clipp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4704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9920" y="152388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of moving bicycle wheel to show shutter speed in the partner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79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38:25Z</dcterms:created>
  <dc:creator>BAL_LMROWAN</dc:creator>
  <dc:description/>
  <dc:language>en-US</dc:language>
  <cp:lastModifiedBy>C</cp:lastModifiedBy>
  <dcterms:modified xsi:type="dcterms:W3CDTF">2009-05-22T21:46:40Z</dcterms:modified>
  <cp:revision>6</cp:revision>
  <dc:subject/>
  <dc:title>Slide 1</dc:title>
</cp:coreProperties>
</file>